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865004"/>
        <c:axId val="77251388"/>
      </c:barChart>
      <c:catAx>
        <c:axId val="588650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251388"/>
        <c:crosses val="autoZero"/>
        <c:auto val="1"/>
        <c:lblAlgn val="ctr"/>
        <c:lblOffset val="100"/>
        <c:noMultiLvlLbl val="0"/>
      </c:catAx>
      <c:valAx>
        <c:axId val="772513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8650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A9D2-9136-468B-B367-A7715913B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CBF7-4C8C-492F-9AB9-84D105B1C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1824-1529-4E48-9611-ED3AD4182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EECB-32A6-43B4-AC82-50E313E15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6DE6-3B3E-4A48-918F-42ADE588C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0F56-956D-4998-AD56-BEDBE4016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DB47-35B1-4E2A-ACE1-AFD14946B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3851-769D-4A4B-830B-032E84C89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45F7-DEB2-4431-8C6A-CFD5006EB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8591-126A-4E27-88FA-B31C17F1A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9A13-18D0-417C-A267-62BE7C0FC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0645-5393-4DD9-A0D5-147C64075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7183C4-88FE-4461-BEF8-B963BBD524D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