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2782"/>
        <c:axId val="80044667"/>
      </c:barChart>
      <c:catAx>
        <c:axId val="82127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44667"/>
        <c:crosses val="autoZero"/>
        <c:auto val="1"/>
        <c:lblAlgn val="ctr"/>
        <c:lblOffset val="100"/>
        <c:noMultiLvlLbl val="0"/>
      </c:catAx>
      <c:valAx>
        <c:axId val="80044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27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C8C-4EB0-4BA3-9C44-07E3C217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A6CA-4700-481F-902B-85BF9291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09E-A174-4405-B2E1-47A70D20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8FE-07B7-49FB-9E26-2F51BB4E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BA7-015A-4948-8F2D-C83C121E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057-1D42-4C69-9CBD-78B91128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63B7-F5ED-42FB-AC7E-897BE920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35F-5925-418E-9E13-C9D404C3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C9C-0151-459C-B761-53F98468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CE8-A1BD-484C-9108-4E10EF8C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94A-360F-4BE8-8274-17A3C1E9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F25-8D03-4F9A-A85B-B6D4DCD9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9DA29-3AF5-4A72-9A0F-0D42B9F0EA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