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22753"/>
        <c:axId val="2400504"/>
      </c:barChart>
      <c:catAx>
        <c:axId val="43022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0504"/>
        <c:crosses val="autoZero"/>
        <c:auto val="1"/>
        <c:lblAlgn val="ctr"/>
        <c:lblOffset val="100"/>
        <c:noMultiLvlLbl val="0"/>
      </c:catAx>
      <c:valAx>
        <c:axId val="2400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22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087-75B1-496C-8A41-1CC9BF21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E31-99D0-4422-86D6-8197B4A7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80D-F942-4B40-9E4B-36610F80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B95-7F2B-40E7-8702-891B0B5C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7A5-8EC7-4D78-974C-B529EE3D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EBE-83BD-4660-BC5E-08062E1B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3D6-EA84-462F-908B-01539BE9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844-14BA-49CF-B33A-09A6D450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5E5-A85C-419C-9985-4C39B58F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357-30A1-4BD7-A7AE-D8CDDF56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FFA-5224-4E0F-BADD-28BE7822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6FF-C178-4071-BFDF-448DD440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38062-89DD-4041-8937-1DE56C71A1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