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689931"/>
        <c:axId val="97837924"/>
      </c:barChart>
      <c:catAx>
        <c:axId val="146899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37924"/>
        <c:crosses val="autoZero"/>
        <c:auto val="1"/>
        <c:lblAlgn val="ctr"/>
        <c:lblOffset val="100"/>
        <c:noMultiLvlLbl val="0"/>
      </c:catAx>
      <c:valAx>
        <c:axId val="97837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899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5C96-1A29-4C18-B0E5-117B3F28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0E41-C9CB-4F60-AC27-4D91EF68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F4C-816D-4641-9316-E1A46B59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A5D-5D7E-47CA-A015-E6E7FBFA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595-E16A-4661-9547-17183DF1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B961-CF82-41FA-ACCC-AB643DDE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597-B2B3-429D-B615-BB9AE9A5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B5BE-FC1A-4453-A29D-505E31D9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BBD2-B371-4435-B419-7827BDB6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BCF-7F69-462D-B608-79520864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9C57-C0F4-41A0-9122-DBD7B862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276-7F6A-4476-825A-F8E8005F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458F5-262C-41BA-BB54-67E044D9A5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