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134423"/>
        <c:axId val="1592020"/>
      </c:barChart>
      <c:catAx>
        <c:axId val="571344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2020"/>
        <c:crosses val="autoZero"/>
        <c:auto val="1"/>
        <c:lblAlgn val="ctr"/>
        <c:lblOffset val="100"/>
        <c:noMultiLvlLbl val="0"/>
      </c:catAx>
      <c:valAx>
        <c:axId val="15920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344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4CF6-11C9-49B9-A205-7D77F3FBA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F306-81BE-4EE3-A62F-871465DB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2EAD-4243-45C5-9AA1-E64864C30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F6C0-5860-40A5-AF86-B6F52E81D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1FE2-2145-45D0-AA7D-4D15EDE4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E98D-384E-4491-A4B3-4A092F39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4ECA-75E1-49C2-A4F3-961047F3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C107-0D78-40C0-88DF-D25FB5D8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EA31-9C0B-4581-82E3-B4B87F80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F594-316C-4795-BEC4-9FD0D70D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4504-2830-48DE-8231-FB685A6F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E410-606D-40B1-AB35-F462195F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84B97-55DC-4292-B98E-9FB5340DFE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