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7464"/>
        <c:axId val="41186773"/>
      </c:barChart>
      <c:catAx>
        <c:axId val="2837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86773"/>
        <c:crosses val="autoZero"/>
        <c:auto val="1"/>
        <c:lblAlgn val="ctr"/>
        <c:lblOffset val="100"/>
        <c:noMultiLvlLbl val="0"/>
      </c:catAx>
      <c:valAx>
        <c:axId val="41186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7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368-78FF-4BED-857F-7FC9CAAA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3A3-A856-42FD-9B8B-0DF3F86D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2C6-0062-470C-A620-53EFF260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491-6D99-43E0-95BC-F2F9C970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63D-3A68-4219-9B8D-AEEC59E9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434-737F-4549-A0AB-D19EE310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636-49F2-4F7A-ABD3-E08F31F3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059-C6ED-4027-AEC4-8B13E793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018-45F6-4A4A-B461-95791C6F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3B4-1DAA-405F-8724-325CCAA4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2CB-3744-4ABA-8A32-014ECFD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107-5E17-4615-9F68-3740A651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A61E0-8664-4687-B4E7-F2ED2E6C3F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