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46711"/>
        <c:axId val="87750778"/>
      </c:barChart>
      <c:catAx>
        <c:axId val="37146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50778"/>
        <c:crosses val="autoZero"/>
        <c:auto val="1"/>
        <c:lblAlgn val="ctr"/>
        <c:lblOffset val="100"/>
        <c:noMultiLvlLbl val="0"/>
      </c:catAx>
      <c:valAx>
        <c:axId val="87750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46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21A-2A36-45F8-87DA-2D8CC6DE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1E9-3E6A-49CB-9BE2-57C7EEAE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EC12-13C2-4B18-A3E8-87F738AE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2FFE-420A-45D1-955B-00A9FD58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8CA7-9CBF-4D41-945B-C67B3859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2A9C-EA6C-4A18-9131-B68A5150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424-CCE9-4AE2-A740-BF9F1839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07C-02C0-4BC3-9ED6-F9725B2A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F021-AFF9-4F24-A0B8-68B7B3F4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3D8-7D47-443C-8A1F-FB26FE11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1F2-9A18-40FF-A8EE-6DF53BB6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E42-4055-4745-9DB3-DE182EC0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22AE3-13EC-488F-82B7-28BCB9EE53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