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860317"/>
        <c:axId val="73889756"/>
      </c:barChart>
      <c:catAx>
        <c:axId val="18860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89756"/>
        <c:crosses val="autoZero"/>
        <c:auto val="1"/>
        <c:lblAlgn val="ctr"/>
        <c:lblOffset val="100"/>
        <c:noMultiLvlLbl val="0"/>
      </c:catAx>
      <c:valAx>
        <c:axId val="73889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60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C9F-595F-41C5-8737-FDB60289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F1C8-704B-4058-96E7-7DE5926A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0F2-3E20-43CE-B514-D3D405F8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EB52-E223-4AE5-ACF7-9AA602F2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FEE-813C-4274-A2FE-E297D240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B09-1A85-4451-804F-6F9FA3F9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B053-9DF3-42E7-AFE9-1D0FC641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16F5-AE6E-4AE1-8534-CF1F320C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9CA7-E1FC-4490-8806-5F9222AF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350F-02E8-4413-B07A-D696DBF1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B85F-4137-4FF2-AA0A-7259DFAC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146-BC57-409D-AE44-69042599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F1978-748C-4852-89E9-9F7B0B79D4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