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6592177"/>
        <c:axId val="20329873"/>
      </c:barChart>
      <c:catAx>
        <c:axId val="5659217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329873"/>
        <c:crosses val="autoZero"/>
        <c:auto val="1"/>
        <c:lblAlgn val="ctr"/>
        <c:lblOffset val="100"/>
        <c:noMultiLvlLbl val="0"/>
      </c:catAx>
      <c:valAx>
        <c:axId val="2032987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659217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F7CC0-AE88-4C57-8554-4F1F4CF33E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5C7A8-3850-4AD1-9518-36BE8905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1E1BE-002B-4367-874F-E0FF4CBE4A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672F6-1D61-4C34-8360-05B9B0657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B9CA-BA18-4316-B6C0-8B6AC41B8D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D53AA-8D95-418E-BD50-76266D7B74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A2DC0-F7C2-4222-825D-B6F68EC37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F67F8-2C8C-40F6-A9AE-1D036D6E12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C0E66-FC9D-4B96-82B4-550995505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F1CAA-E49C-4F2D-A40E-AF8057934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D32C2-D11D-4AC7-8569-0AF42E082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2917-08B1-46FF-ABA9-4D452FA0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D9E29C-BE08-4AFB-86F5-430B5C0869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