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50306"/>
        <c:axId val="43495574"/>
      </c:barChart>
      <c:catAx>
        <c:axId val="56350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95574"/>
        <c:crosses val="autoZero"/>
        <c:auto val="1"/>
        <c:lblAlgn val="ctr"/>
        <c:lblOffset val="100"/>
        <c:noMultiLvlLbl val="0"/>
      </c:catAx>
      <c:valAx>
        <c:axId val="434955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50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B83-D2E7-47D5-A917-45AA1E3E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8D1-7F77-4661-A11D-E146858B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D4E-CFBB-4E3C-A77F-F127385C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929-4A0B-4848-87FC-0528B44B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D62-271D-40AE-A468-6DC40EAB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22C-48EE-4C0E-8FF7-EB301547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244-30B8-4704-AE84-8E1B58A8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70B9-F8DB-4A32-9645-D4059244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A20-BB96-465A-A154-F50F3FF9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E9A5-0C0D-4495-A675-05DA11D4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351-AFFE-43D3-A159-7D8212D5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007-9DFA-4250-B831-348B114A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0F25F-E68E-44B9-B6BF-CD7AC8CA9E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