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89358"/>
        <c:axId val="95108013"/>
      </c:barChart>
      <c:catAx>
        <c:axId val="64689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08013"/>
        <c:crosses val="autoZero"/>
        <c:auto val="1"/>
        <c:lblAlgn val="ctr"/>
        <c:lblOffset val="100"/>
        <c:noMultiLvlLbl val="0"/>
      </c:catAx>
      <c:valAx>
        <c:axId val="95108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89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AC4C-8D72-4019-B8EA-95B97608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D15-7D1A-4BB6-931F-89B4778B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D58-116E-4B14-AF07-C48AD295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EB48-408D-4D5D-931C-F42254B1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31C-0A2A-4732-BBED-2F63B02A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5D1-B7FD-4108-B0E6-627FFE9F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9F8-7537-40DD-9381-FE0E2069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F81-0B22-4D97-88C1-F839CA38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78C-C3F5-4839-AC1F-85E8541A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2DB-CA6F-45A5-B552-F8D8279B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CA1F-00AC-4894-8545-5F2CB616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E1A-40A0-4FA3-B3C9-DD9082AC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7FC4B-6746-4A09-897A-D977395C85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