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003237"/>
        <c:axId val="12015335"/>
      </c:barChart>
      <c:catAx>
        <c:axId val="320032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15335"/>
        <c:crosses val="autoZero"/>
        <c:auto val="1"/>
        <c:lblAlgn val="ctr"/>
        <c:lblOffset val="100"/>
        <c:noMultiLvlLbl val="0"/>
      </c:catAx>
      <c:valAx>
        <c:axId val="120153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032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C03F-84FD-44C3-8948-E118B02A8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0DED-647D-433A-AC84-6A84C880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2AE-3CD3-497D-97A5-D525F489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A59-C765-4DC0-8F79-32AE501A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167-3011-4B6A-B9C8-E49C764E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3748-54D3-43BE-99CB-9DAB2A0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F973-4B37-402E-8D78-495CCC54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BF7-DC2B-4488-A413-7A7F5E0E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BB3-E134-4082-A7BF-643F86E4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89BF-2529-4E40-9C36-B9CE3F8A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0D1D-71ED-4093-927D-44558C85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EFFD-B056-4715-922E-AB238D7B7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11408D-C165-4CBF-9F05-960FEB6027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