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218229"/>
        <c:axId val="23851175"/>
      </c:barChart>
      <c:catAx>
        <c:axId val="692182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51175"/>
        <c:crosses val="autoZero"/>
        <c:auto val="1"/>
        <c:lblAlgn val="ctr"/>
        <c:lblOffset val="100"/>
        <c:noMultiLvlLbl val="0"/>
      </c:catAx>
      <c:valAx>
        <c:axId val="238511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2182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CCB-D329-4AA0-BD7D-1CB03CD6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5419-9051-49D2-8229-C9743A7E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F0D1-1EE0-4E31-BAD1-12BAEC85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8183-EEEB-4B1F-89F4-7A8442F85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68F7-CB96-4B3E-98EF-C462AFEA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E16E-C17D-469D-9B72-F0320709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A9CF-4A9C-4F17-9528-8413DC05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8958-6DDA-4C8D-8513-7AEA6416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BC4B-7410-4954-BBD2-3F5C8A11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404B-3479-47F0-B6DD-4B0A8F54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47B7-42E9-4CBB-AED8-3A0062E4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B9B3-1397-4455-8714-2DB012ED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46730-1B22-46FA-9698-853D5995B2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