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53322"/>
        <c:axId val="83925459"/>
      </c:barChart>
      <c:catAx>
        <c:axId val="77753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25459"/>
        <c:crosses val="autoZero"/>
        <c:auto val="1"/>
        <c:lblAlgn val="ctr"/>
        <c:lblOffset val="100"/>
        <c:noMultiLvlLbl val="0"/>
      </c:catAx>
      <c:valAx>
        <c:axId val="839254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53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9EA3-93EC-4DCF-BB14-3E3B0164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8B7-10FD-417B-A801-5197C039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307-48E2-41B3-B6FB-7148F5FA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C11-752C-4647-BB7A-16CC92AE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5E8D-C694-4B5C-8E4C-83D68851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2A4-1B3C-4623-A69D-A2D93995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072D-0829-4A29-A3E0-5C8F3248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5F4-0743-4E1E-938A-FAF131DF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1785-75FC-42A1-AA56-5E6F8813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D89-3A9D-4261-98BC-3DEC6477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82D4-CBA4-463D-B555-6913C6A2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8AFA-6508-49DD-BFE9-1F7D83B1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529DB-79AC-4170-9D52-32BA028C8F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