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7835406"/>
        <c:axId val="57546876"/>
      </c:barChart>
      <c:catAx>
        <c:axId val="4783540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546876"/>
        <c:crosses val="autoZero"/>
        <c:auto val="1"/>
        <c:lblAlgn val="ctr"/>
        <c:lblOffset val="100"/>
        <c:noMultiLvlLbl val="0"/>
      </c:catAx>
      <c:valAx>
        <c:axId val="5754687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83540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DD2A-A15A-4215-96D2-B96240C1A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289B-45EB-44A0-A947-032175B5C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ABF4-D7DD-45BB-BB85-4D904E8DA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5D3D-96B8-4587-B7CD-257FA23C5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1162-BC9B-4259-9AF0-D932E1DF9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C28D-6AB6-4D84-A5D0-F42F635BB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E1A3-1ADA-4F64-8A89-8B914B6F3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DEAF-C17B-4C96-B2EA-5B364549B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2808-CF56-4DFE-A8C5-5E6CB76ED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5F32-B884-4B91-9863-FAA890EC3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1088-BAFB-44AB-B728-01E8F9F43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F329-E1B7-4809-B94E-E77AB141F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68419B-BFB8-41CC-B4BE-09B0447EED4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