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05736"/>
        <c:axId val="91516893"/>
      </c:barChart>
      <c:catAx>
        <c:axId val="89405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16893"/>
        <c:crosses val="autoZero"/>
        <c:auto val="1"/>
        <c:lblAlgn val="ctr"/>
        <c:lblOffset val="100"/>
        <c:noMultiLvlLbl val="0"/>
      </c:catAx>
      <c:valAx>
        <c:axId val="91516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05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900-D293-4D2C-A74F-BCE410C7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A41-153F-49B8-9683-B018C648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569-BC3C-4FC1-944E-D1CD0025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6C6-FE5F-4768-918B-BCD21D68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223-6A7E-4883-A88D-2F693770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890-3011-4B60-9C5B-7F02B23E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172-6D8D-4FD7-8C77-9BAB86B0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CE1-3675-469F-AB56-F7B86659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93F-3E5D-4139-88B3-3BCAE9DC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51F-BF9F-410B-9FEF-B4E1B9A6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FB9-2B9C-419F-8298-1D0D6E7C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FB5-3856-4CE9-BBAE-5EB04E09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1EC59-ADC0-43B8-800A-C68F3E6188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