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11151"/>
        <c:axId val="65801201"/>
      </c:barChart>
      <c:catAx>
        <c:axId val="77411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01201"/>
        <c:crosses val="autoZero"/>
        <c:auto val="1"/>
        <c:lblAlgn val="ctr"/>
        <c:lblOffset val="100"/>
        <c:noMultiLvlLbl val="0"/>
      </c:catAx>
      <c:valAx>
        <c:axId val="65801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11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B4D-29FB-4395-9E55-A733B598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AA6-7744-4B19-8831-238A347A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DED-13D7-486E-B4A1-DE7B30B3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437-2294-4CD3-B35D-75A8C59D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7B8-6860-4EAD-A9A2-D4866871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69B-606F-47D6-BE72-05D8BB0B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EED-83D5-461B-A0B9-45BD5CBD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7EC-7D80-45CC-BD68-F9A2DB0F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6D3-EEAB-49CE-8D8D-D37D5966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295F-EA64-4DE1-9667-E42E656B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6AA-E07C-4D98-B0F9-A8FB0834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9A2-4568-456F-B8C2-7D3C656A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687A5-0F5B-43E0-81C9-C2E4E29CCA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