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28755"/>
        <c:axId val="87535369"/>
      </c:barChart>
      <c:catAx>
        <c:axId val="48928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35369"/>
        <c:crosses val="autoZero"/>
        <c:auto val="1"/>
        <c:lblAlgn val="ctr"/>
        <c:lblOffset val="100"/>
        <c:noMultiLvlLbl val="0"/>
      </c:catAx>
      <c:valAx>
        <c:axId val="87535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28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58E-C79E-4CE5-B9C3-FB488AD4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055-835B-40A4-AA3A-4F727F5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9D2-B72E-4EFA-B462-A8BE1DF6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337-735A-41D0-A414-DBD8A739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746-985F-42AE-B0E2-6C288A1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BCD-4F12-41CC-A026-1779CEF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6AA-47E2-4C74-B26B-83D4E0E8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BA4-F028-46AD-B230-76F14FD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94A-6DD5-498F-830B-308885C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13E-7004-4570-AC70-59244DC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5E4-6139-4247-8366-41FD5A0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D76-EE8B-404C-A1A0-F099DBE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346FD-0451-441E-9BAC-E15E9AC99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