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79482"/>
        <c:axId val="48911746"/>
      </c:barChart>
      <c:catAx>
        <c:axId val="37979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1746"/>
        <c:crosses val="autoZero"/>
        <c:auto val="1"/>
        <c:lblAlgn val="ctr"/>
        <c:lblOffset val="100"/>
        <c:noMultiLvlLbl val="0"/>
      </c:catAx>
      <c:valAx>
        <c:axId val="48911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79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B54-39F8-486F-934F-CFB4DC00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7E4-9C61-43D3-BCA7-796B5ED6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54E-27C4-40BD-905B-F0F5E8E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9DA-07DE-4879-BBFE-36642D9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C7F-0B97-45C7-95D3-FB2BCE3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1F5-E453-4B7D-8890-5CBB56A5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A51-CE3D-4745-8812-FD649A1F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F3B-C1F7-4561-87A4-375D820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836-72AF-4D80-8A35-201536FD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DBF-CA62-4996-BD10-DD66C7D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54C-6A1B-408A-BC46-6B47867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4DF-9096-4C51-B32D-84B2689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2EBD7-7836-4415-A46A-2F1E7B6013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