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1911011"/>
        <c:axId val="59577195"/>
      </c:barChart>
      <c:catAx>
        <c:axId val="6191101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577195"/>
        <c:crosses val="autoZero"/>
        <c:auto val="1"/>
        <c:lblAlgn val="ctr"/>
        <c:lblOffset val="100"/>
        <c:noMultiLvlLbl val="0"/>
      </c:catAx>
      <c:valAx>
        <c:axId val="5957719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91101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9DED-6E34-4B96-AAC0-088D633BF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F794-1B9E-4B53-B56E-0F9F2256E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A501-4196-4D6B-9DAA-8A7204154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9C53-8423-4F94-B3C5-8C1EDD08C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ADD1-7F59-437C-B587-46054274A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883F-C127-41A2-A8E6-CECBF7B24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92DB-CD48-40F7-9514-0E4EFBE11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C770-0E44-4EEF-8AA9-3F2355793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76B1-497B-44A3-A96F-E2BE508FE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8338-C16D-436A-B3DD-48199E1F9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EFA6-5620-451F-92FC-154AB44FC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B17F-FDCB-4385-A90A-E052367DF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646CA0-9CF9-4901-84B7-553FA0E483F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