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732790"/>
        <c:axId val="61479129"/>
      </c:barChart>
      <c:catAx>
        <c:axId val="897327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79129"/>
        <c:crosses val="autoZero"/>
        <c:auto val="1"/>
        <c:lblAlgn val="ctr"/>
        <c:lblOffset val="100"/>
        <c:noMultiLvlLbl val="0"/>
      </c:catAx>
      <c:valAx>
        <c:axId val="614791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327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A6E-E0EA-46D2-84C7-2EF0248C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672A-E9DE-44E7-B8DA-3AC34200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7D1A-9416-474A-96A7-91540058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0CA-1AB2-40D9-8A53-959A0D6B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B35F-798A-490C-BEC1-E66C7F70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25B8-DF51-4585-9A37-BC69372D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6BC-7926-429D-8656-3E195F1D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AA6-0013-4525-8C5B-CF54BCCF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9807-C2D2-4D05-9B52-21495EAD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67DF-79A5-4814-A24A-7CAA494E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2C48-7A71-4A25-8D0A-5623D96B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4375-5188-47D0-ACDF-9EF1E6D8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E7D87-84C4-42D2-8F58-C694B4D907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