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59728"/>
        <c:axId val="14484298"/>
      </c:barChart>
      <c:catAx>
        <c:axId val="42659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84298"/>
        <c:crosses val="autoZero"/>
        <c:auto val="1"/>
        <c:lblAlgn val="ctr"/>
        <c:lblOffset val="100"/>
        <c:noMultiLvlLbl val="0"/>
      </c:catAx>
      <c:valAx>
        <c:axId val="14484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9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5F4-9C1B-4E71-8F1E-582668C8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5EE-535F-42A7-BF45-26A0DF4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F4E-186B-4F39-82EC-038ED347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63A-2DEC-4B13-97B5-A1D6D853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729-4A59-4A4C-849A-6DD616BE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B65-62CA-4684-A167-C2BEAB50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34C-7C7C-45A6-BDB4-0BD65C3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4B1-1A07-439D-BD47-449A539F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C44-AC2F-43B3-A291-C1C1BDFC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78F-D2CF-4301-9269-9B93A7B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C30-BBD7-482F-ABC1-62527A5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625-4B2B-43FC-9DE7-C4374AF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D7346-2513-4DCD-A65D-51F52F463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