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83377"/>
        <c:axId val="74527237"/>
      </c:barChart>
      <c:catAx>
        <c:axId val="13283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27237"/>
        <c:crosses val="autoZero"/>
        <c:auto val="1"/>
        <c:lblAlgn val="ctr"/>
        <c:lblOffset val="100"/>
        <c:noMultiLvlLbl val="0"/>
      </c:catAx>
      <c:valAx>
        <c:axId val="74527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83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A1E-AAFB-4D2D-929D-B2A55E1A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84D-6A0F-4505-B829-F54E0656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D66-BC8D-408F-9239-74B29F2E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1BD-D823-4814-AF04-2FE613D6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72A-73B2-4A74-B9D3-A0F37FEE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542-46EC-40E0-A566-B1DB885E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1A2-920D-43DA-8132-A5B00EE2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B41-4661-463B-854A-9174A891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57D-4144-4562-8661-FCCA24FE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DF4-56DC-4FDC-AF32-AAA2D2F0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E4E-2E82-4ED9-88E1-A4146ABF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681-847C-4574-A923-60E49704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C1CF8-A025-44C8-91B9-7F9A9554A9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