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01302"/>
        <c:axId val="47334210"/>
      </c:barChart>
      <c:catAx>
        <c:axId val="33301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34210"/>
        <c:crosses val="autoZero"/>
        <c:auto val="1"/>
        <c:lblAlgn val="ctr"/>
        <c:lblOffset val="100"/>
        <c:noMultiLvlLbl val="0"/>
      </c:catAx>
      <c:valAx>
        <c:axId val="47334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01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53C-4E8B-433D-B6A2-F2B71AAC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E45-0A51-4B36-84B5-4777F3C3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251-DDA1-4D6B-B37D-2D91FF2D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FD4-07EF-4C09-B3BA-B464ECF6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88A-7517-40D0-BC66-5074624C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668-C985-4F1E-BAA4-AE044FB1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4AE-E3F8-4B6C-9314-D1EE6D5F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D65-76A8-4051-B7BE-6AAC40AA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6E3-C8C0-424F-BC2C-FFFE232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6C0-2BC9-482F-A239-B1DA2F9D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E73-6093-4203-8620-B0BF26A1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609-8BD8-4BBD-B4E3-309ED468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E60CF-6158-4A90-AA4B-4A5D6F1742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